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C7DAB6-7C54-4FFE-A5AC-4892BCF64C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051653-1482-455B-B835-39CA9BA39D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D08CA7-FABE-4708-A5A9-CCA6C21859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3E2029-1153-4FC0-8923-D16E347314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56DFE8-706D-4431-A4FF-7CA5ED20505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4C7728-1C7B-4A0E-9742-68ECDFC30F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043AD6-B7D4-4549-85A6-F3A0383526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C947DF-8C39-448B-8252-39FC7AA06E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10B634-DC56-48C1-B56F-8E966C389A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D2CD0A-837B-4A0F-9B0D-389E753EEF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D9F629-53A1-4F85-B4C5-FA821AFCF7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FC1D4-6F14-494D-8E97-709071A72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0C751-E689-4541-BFEC-C1CD508E8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F8F89-729A-430B-81DA-ECCD7EA70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E1199-A5B7-4C6A-878E-3747DE935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8A08-77AD-4515-B005-D31ADEDB54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4D594-612F-4696-8BF3-EFA15E6A54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F9A45-9930-4B84-A48B-DD0503D72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99E71-F361-48B7-A3D3-3C9E228156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2FC5E5-CA7F-4CD7-9773-6524E5DC3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703AA-57B2-46D1-9E9B-ADE5B78249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E1EEB-3F3B-4536-952B-117663C0D7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21A79-AD90-4389-83DE-208457EC28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D4B2B-B7E8-4947-9EF7-63ACAF27E94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2.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8.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ith My Girl</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Banished!  I cant believe it!  You'd think that Escalus would've been more considerate since Tybalt was the one who killed good Merctuio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seems happier now.  That’s a good thing</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the weddin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Getting ready for a wedding</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 think I'm in lov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The ball was great.  I met an awesome girl ther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666720"/>
        </p:xfrm>
        <a:graphic>
          <a:graphicData uri="http://schemas.openxmlformats.org/drawingml/2006/table">
            <a:tbl>
              <a:tblPr/>
              <a:tblGrid>
                <a:gridCol w="160200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528480"/>
            <a:ext cx="1150920" cy="1152720"/>
          </a:xfrm>
          <a:prstGeom prst="rect">
            <a:avLst/>
          </a:prstGeom>
          <a:ln w="0">
            <a:noFill/>
          </a:ln>
        </p:spPr>
      </p:pic>
      <p:pic>
        <p:nvPicPr>
          <p:cNvPr id="92" name="Picture 57" descr=""/>
          <p:cNvPicPr/>
          <p:nvPr/>
        </p:nvPicPr>
        <p:blipFill>
          <a:blip r:embed="rId6"/>
          <a:stretch/>
        </p:blipFill>
        <p:spPr>
          <a:xfrm>
            <a:off x="2133720" y="2523960"/>
            <a:ext cx="438120" cy="438480"/>
          </a:xfrm>
          <a:prstGeom prst="rect">
            <a:avLst/>
          </a:prstGeom>
          <a:ln w="0">
            <a:noFill/>
          </a:ln>
        </p:spPr>
      </p:pic>
      <p:pic>
        <p:nvPicPr>
          <p:cNvPr id="93" name="Picture 58" descr=""/>
          <p:cNvPicPr/>
          <p:nvPr/>
        </p:nvPicPr>
        <p:blipFill>
          <a:blip r:embed="rId7"/>
          <a:stretch/>
        </p:blipFill>
        <p:spPr>
          <a:xfrm>
            <a:off x="2136600" y="3124080"/>
            <a:ext cx="371520" cy="557280"/>
          </a:xfrm>
          <a:prstGeom prst="rect">
            <a:avLst/>
          </a:prstGeom>
          <a:ln w="0">
            <a:noFill/>
          </a:ln>
        </p:spPr>
      </p:pic>
      <p:pic>
        <p:nvPicPr>
          <p:cNvPr id="94" name="Picture 59" descr=""/>
          <p:cNvPicPr/>
          <p:nvPr/>
        </p:nvPicPr>
        <p:blipFill>
          <a:blip r:embed="rId8"/>
          <a:stretch/>
        </p:blipFill>
        <p:spPr>
          <a:xfrm>
            <a:off x="2133720" y="4505400"/>
            <a:ext cx="438120" cy="438120"/>
          </a:xfrm>
          <a:prstGeom prst="rect">
            <a:avLst/>
          </a:prstGeom>
          <a:ln w="0">
            <a:noFill/>
          </a:ln>
        </p:spPr>
      </p:pic>
      <p:pic>
        <p:nvPicPr>
          <p:cNvPr id="95" name="Picture 60" descr=""/>
          <p:cNvPicPr/>
          <p:nvPr/>
        </p:nvPicPr>
        <p:blipFill>
          <a:blip r:embed="rId9"/>
          <a:stretch/>
        </p:blipFill>
        <p:spPr>
          <a:xfrm>
            <a:off x="2133720" y="5191200"/>
            <a:ext cx="438120" cy="43812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33720" y="5877000"/>
            <a:ext cx="438120" cy="43812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41280" y="5562720"/>
            <a:ext cx="36684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Mantu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Gues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d0d0d"/>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d0d0d"/>
                </a:solidFill>
                <a:latin typeface="Arial"/>
              </a:rPr>
              <a:t>With My Girl</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thinking of things,  hanging with Benvolio and </a:t>
            </a:r>
            <a:r>
              <a:rPr b="0" lang="en-US" sz="800" spc="-1" strike="noStrike">
                <a:solidFill>
                  <a:srgbClr val="000000"/>
                </a:solidFill>
                <a:latin typeface="Arial"/>
              </a:rPr>
              <a:t>	</a:t>
            </a:r>
            <a:r>
              <a:rPr b="0" lang="en-US" sz="800" spc="-1" strike="noStrike">
                <a:solidFill>
                  <a:srgbClr val="000000"/>
                </a:solidFill>
                <a:latin typeface="Arial"/>
              </a:rPr>
              <a:t>Merctui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the lady, friend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Lil’ Wayne, Akon, T.I.</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ransformers,  Yes Man, Kick A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Ultimate Fighter, Tool Academ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Fablehaven, Eragon, Fire Star</a:t>
            </a:r>
            <a:endParaRPr b="0" lang="en-US" sz="800" spc="-1" strike="noStrike">
              <a:solidFill>
                <a:srgbClr val="ffffff"/>
              </a:solidFill>
              <a:latin typeface="Arial"/>
            </a:endParaRPr>
          </a:p>
        </p:txBody>
      </p:sp>
      <p:sp>
        <p:nvSpPr>
          <p:cNvPr id="133" name="Text Box 34"/>
          <p:cNvSpPr/>
          <p:nvPr/>
        </p:nvSpPr>
        <p:spPr>
          <a:xfrm>
            <a:off x="838080" y="533412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Just  hangin </a:t>
            </a: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03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22228b"/>
                </a:solidFill>
                <a:latin typeface="Arial"/>
              </a:rPr>
              <a:t>With Juliet </a:t>
            </a: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Check Mantua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d0d0d"/>
                </a:solidFill>
                <a:latin typeface="Arial"/>
              </a:rPr>
              <a:t>557 678 9867</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457200"/>
            <a:ext cx="1150920" cy="1152360"/>
          </a:xfrm>
          <a:prstGeom prst="rect">
            <a:avLst/>
          </a:prstGeom>
          <a:ln w="0">
            <a:noFill/>
          </a:ln>
        </p:spPr>
      </p:pic>
      <p:graphicFrame>
        <p:nvGraphicFramePr>
          <p:cNvPr id="140" name=""/>
          <p:cNvGraphicFramePr/>
          <p:nvPr/>
        </p:nvGraphicFramePr>
        <p:xfrm>
          <a:off x="152280" y="1600200"/>
          <a:ext cx="1525680" cy="839880"/>
        </p:xfrm>
        <a:graphic>
          <a:graphicData uri="http://schemas.openxmlformats.org/drawingml/2006/table">
            <a:tbl>
              <a:tblPr/>
              <a:tblGrid>
                <a:gridCol w="152568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rcutio’s death has been avenged but I have been banished because of i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81080" y="5396040"/>
            <a:ext cx="628560" cy="509400"/>
          </a:xfrm>
          <a:prstGeom prst="rect">
            <a:avLst/>
          </a:prstGeom>
          <a:ln w="0">
            <a:noFill/>
          </a:ln>
        </p:spPr>
      </p:pic>
      <p:pic>
        <p:nvPicPr>
          <p:cNvPr id="142" name="Picture 48" descr="">
            <a:hlinkClick r:id="rId9"/>
          </p:cNvPr>
          <p:cNvPicPr/>
          <p:nvPr/>
        </p:nvPicPr>
        <p:blipFill>
          <a:blip r:embed="rId10"/>
          <a:stretch/>
        </p:blipFill>
        <p:spPr>
          <a:xfrm>
            <a:off x="271440" y="6172200"/>
            <a:ext cx="4255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476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an Escalus texted me some bad news that I was just getting over after hearing it from the Friar.  Here it i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am giving you till the morning to be out of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es.  Banishment is your punishment.  While I do understand your thoughts, Merctuio being my cousin and all, killing Tybalt cant go unpu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f you understand then you wont banis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ts either banishment or death Romeo.  I'm being merc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think id rather be dead than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I stand by my punishment.  You have till the morning to be out of her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illed the man who killed your cousin!  Cant you just let it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I would but that would mean more conflict between the Montagues and the Capulet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don’t care!  I have to go and get ready to leave apparently!  Good bye</a:t>
            </a:r>
            <a:endParaRPr b="0" lang="en-US" sz="1100" spc="-1" strike="noStrike">
              <a:solidFill>
                <a:srgbClr val="ffffff"/>
              </a:solidFill>
              <a:latin typeface="Arial"/>
            </a:endParaRPr>
          </a:p>
        </p:txBody>
      </p:sp>
      <p:sp>
        <p:nvSpPr>
          <p:cNvPr id="157" name="Text Box 16"/>
          <p:cNvSpPr/>
          <p:nvPr/>
        </p:nvSpPr>
        <p:spPr>
          <a:xfrm>
            <a:off x="685800" y="5181480"/>
            <a:ext cx="5638680" cy="1587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Being Banished</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hate Verona and its stupid laws!  Tybalt killed my best friend, who is also the princes’ cousin, and what happens when I get revenge on him?  I get banished because of it!  I have to leave Verona and also my love.  I have to leave my family behind.  I have to leave everything I have grown up to know.   I must go to Mantua.  Everything is just wrong here.  Prince Escalus isn’t as great as everyone thinks he is.  If you kill someone who killed his family he isn't grateful.  He will just banish you for it like he did to me.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200" spc="-1" strike="noStrike">
                <a:solidFill>
                  <a:srgbClr val="000000"/>
                </a:solidFill>
                <a:latin typeface="Arial"/>
              </a:rPr>
              <a:t> is banished!  Cant believe this!  Its torture!</a:t>
            </a:r>
            <a:endParaRPr b="0" lang="en-US" sz="12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228600" y="557280"/>
            <a:ext cx="517680" cy="517320"/>
          </a:xfrm>
          <a:prstGeom prst="rect">
            <a:avLst/>
          </a:prstGeom>
          <a:ln w="0">
            <a:noFill/>
          </a:ln>
        </p:spPr>
      </p:pic>
      <p:sp>
        <p:nvSpPr>
          <p:cNvPr id="160" name="Rectangle 20"/>
          <p:cNvSpPr/>
          <p:nvPr/>
        </p:nvSpPr>
        <p:spPr>
          <a:xfrm>
            <a:off x="533520" y="1523880"/>
            <a:ext cx="6400800" cy="34290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5105520"/>
            <a:ext cx="6400800" cy="1752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606600"/>
            <a:ext cx="768240" cy="76824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Oh N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ve been banished…</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500040" y="3505320"/>
            <a:ext cx="711360" cy="1066680"/>
          </a:xfrm>
          <a:prstGeom prst="rect">
            <a:avLst/>
          </a:prstGeom>
          <a:ln w="0">
            <a:noFill/>
          </a:ln>
        </p:spPr>
      </p:pic>
      <p:sp>
        <p:nvSpPr>
          <p:cNvPr id="180"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Remind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477720" y="5257800"/>
            <a:ext cx="8128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606600"/>
            <a:ext cx="768240" cy="76824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ve been banished and I cant believe it!  Escalus is such a jerk!  How could he do this to you!  You cant go.  You have to stay here in Verona.  But if you stay and get caught you will be put to death.  Why did Tybalt have to be so angry?  Ugh.  I hate this so much.  You have to write to me while your in Mantua okay?  I love you Romeo.  I still cant believe this!  I hate Escalus now.  </a:t>
            </a:r>
            <a:endParaRPr b="0" lang="en-US" sz="1200" spc="-1" strike="noStrike">
              <a:solidFill>
                <a:srgbClr val="ffffff"/>
              </a:solidFill>
              <a:latin typeface="Arial"/>
            </a:endParaRPr>
          </a:p>
        </p:txBody>
      </p:sp>
      <p:pic>
        <p:nvPicPr>
          <p:cNvPr id="200" name="Picture 21" descr="juliet"/>
          <p:cNvPicPr/>
          <p:nvPr/>
        </p:nvPicPr>
        <p:blipFill>
          <a:blip r:embed="rId6"/>
          <a:stretch/>
        </p:blipFill>
        <p:spPr>
          <a:xfrm>
            <a:off x="228600" y="1981080"/>
            <a:ext cx="1270080" cy="1270080"/>
          </a:xfrm>
          <a:prstGeom prst="rect">
            <a:avLst/>
          </a:prstGeom>
          <a:ln w="0">
            <a:noFill/>
          </a:ln>
        </p:spPr>
      </p:pic>
      <p:pic>
        <p:nvPicPr>
          <p:cNvPr id="201" name="Picture 17" descr="Romeo.jpg"/>
          <p:cNvPicPr/>
          <p:nvPr/>
        </p:nvPicPr>
        <p:blipFill>
          <a:blip r:embed="rId7"/>
          <a:stretch/>
        </p:blipFill>
        <p:spPr>
          <a:xfrm>
            <a:off x="304920" y="4191120"/>
            <a:ext cx="1218960" cy="1218960"/>
          </a:xfrm>
          <a:prstGeom prst="rect">
            <a:avLst/>
          </a:prstGeom>
          <a:ln w="0">
            <a:noFill/>
          </a:ln>
        </p:spPr>
      </p:pic>
      <p:sp>
        <p:nvSpPr>
          <p:cNvPr id="202" name="TextBox 19"/>
          <p:cNvSpPr/>
          <p:nvPr/>
        </p:nvSpPr>
        <p:spPr>
          <a:xfrm>
            <a:off x="1828800" y="4267080"/>
            <a:ext cx="563868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h N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ortunately my fair Juliet you have heard correctly.  I have been banished for the murder of your cousin Tybalt.  I was only acting in self defense for myself and the vengeance of the death of Mercutio.  I didn’t even want to fight until he killed  Mercutio.  He was my best friend you must understand my thoughts.  I am sorry Juliet.  I will visit you tonight and be gone by morning.  I love you too.  See you later.</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228600" y="606600"/>
            <a:ext cx="768240" cy="768240"/>
          </a:xfrm>
          <a:prstGeom prst="rect">
            <a:avLst/>
          </a:prstGeom>
          <a:ln w="0">
            <a:noFill/>
          </a:ln>
        </p:spPr>
      </p:pic>
      <p:sp>
        <p:nvSpPr>
          <p:cNvPr id="21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7432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minder</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st  reminding you of the fact that you have until the morning to get out of Verona.  I understand that you are upset and everything but YOU must understand that I am showing you mercy here.  I should have just had you killed right where you stood but seeing as how you killed the man who killed my cousin I decided to show pity.  Well anyway…THE MORNING</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a:hlinkClick r:id="rId6"/>
          </p:cNvPr>
          <p:cNvPicPr/>
          <p:nvPr/>
        </p:nvPicPr>
        <p:blipFill>
          <a:blip r:embed="rId7"/>
          <a:stretch/>
        </p:blipFill>
        <p:spPr>
          <a:xfrm>
            <a:off x="293760" y="1752480"/>
            <a:ext cx="1066680" cy="160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2"/>
          <a:stretch/>
        </p:blipFill>
        <p:spPr>
          <a:xfrm>
            <a:off x="228600" y="606600"/>
            <a:ext cx="768240" cy="76824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you about finding a new girl.  Come on, we both know you don’t really love Rosaline.   You are just obsessed with her.  Tonight, after you see all the chicks dancing in their dresses, you will forget Rosaline even exists and find a new girl to stalk, and I will win the bet.  So, should I swing by soon to pick you up Romeo?  </a:t>
            </a:r>
            <a:endParaRPr b="0" lang="en-US" sz="1200" spc="-1" strike="noStrike">
              <a:solidFill>
                <a:srgbClr val="ffffff"/>
              </a:solidFill>
              <a:latin typeface="Arial"/>
            </a:endParaRPr>
          </a:p>
        </p:txBody>
      </p:sp>
      <p:pic>
        <p:nvPicPr>
          <p:cNvPr id="234" name="Picture 63" descr=""/>
          <p:cNvPicPr/>
          <p:nvPr/>
        </p:nvPicPr>
        <p:blipFill>
          <a:blip r:embed="rId3"/>
          <a:stretch/>
        </p:blipFill>
        <p:spPr>
          <a:xfrm>
            <a:off x="271440" y="1752480"/>
            <a:ext cx="1270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9</cp:lastModifiedBy>
  <dcterms:modified xsi:type="dcterms:W3CDTF">2010-05-14T20:23:12Z</dcterms:modified>
  <cp:revision>66</cp:revision>
  <dc:subject/>
  <dc:title>Profile</dc:title>
</cp:coreProperties>
</file>